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529-67E6-48D2-8A63-5158E4F0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77F-E0AE-46A7-B66B-93BA67E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1A5-12D1-4E10-9C9E-9000B933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55B-DBB0-478D-AA00-375A62A4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C25-0252-452E-AE84-7D958E7A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E6D-87F9-41B3-BAC8-D123514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B29-33E4-484D-B686-C25FFECF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D02-C9FC-430E-BEAC-6D2F9F7E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952-72A3-40F3-BCF0-8DC0E788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7C1-039F-44D0-8F9A-9607B76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E1A-DD0C-4CE0-B88C-DE7A25B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443-5017-427B-A606-E70CD83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C066-7C5F-4A50-A0B0-EBA1B55EB79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7030a0"/>
                </a:solidFill>
                <a:latin typeface="Calibri"/>
                <a:ea typeface="Calibri"/>
              </a:rPr>
              <a:t>DEBATA KLAS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  <a:ea typeface="Calibri"/>
              </a:rPr>
              <a:t>ORGANIZACJA I ZAS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99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"/>
          <p:cNvPicPr/>
          <p:nvPr/>
        </p:nvPicPr>
        <p:blipFill>
          <a:blip r:embed="rId1"/>
          <a:stretch/>
        </p:blipFill>
        <p:spPr>
          <a:xfrm>
            <a:off x="3635280" y="33480"/>
            <a:ext cx="5715000" cy="3808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504d"/>
                </a:solidFill>
                <a:latin typeface="Calibri"/>
              </a:rPr>
              <a:t>OGÓLNE ZAS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4130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Wszyscy uczniowie muszą wziąć udział w deb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Uczniowie muszą skupić się na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tem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Muszą słuchać uważnie i szanować koleg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Nie ma wygranych, czy przegranych; jest na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Uczniowie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, którzy nie zgadzają się z tymi zasadami, stają się publiczności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Calibri"/>
              </a:rPr>
              <a:t>CZAS (50´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341360"/>
          <a:ext cx="8229600" cy="459288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AS 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tacja ćwiczenia i podanie te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tania i wątpliw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zniowie przygotowują argumenty w grup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´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żdy zespół prezentuje swoje argume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´x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grume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je i wnioski w grup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´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nioski końc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a obserwator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nioski końcowe nauczyci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46c0a"/>
                </a:solidFill>
                <a:latin typeface="Calibri"/>
                <a:ea typeface="Calibri"/>
              </a:rPr>
              <a:t>DEBATA UCZNIOW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CO TO J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971640" y="2276640"/>
            <a:ext cx="7796160" cy="18003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To ćwiczenie, gdzie uczniowie przewiają za lub przeciw narzuconemu tematowi bez próby znalezienia rozwiąz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Marcador de contenido"/>
          <p:cNvSpPr/>
          <p:nvPr/>
        </p:nvSpPr>
        <p:spPr>
          <a:xfrm>
            <a:off x="609480" y="3508200"/>
            <a:ext cx="8229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995400" y="4076640"/>
            <a:ext cx="7794720" cy="18003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  <a:ea typeface="Arial"/>
              </a:rPr>
              <a:t>Rozwijanie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  <a:ea typeface="Calibri"/>
              </a:rPr>
              <a:t> umiejętności komunikowania się, analitycznego myślenia i szacu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  <a:ea typeface="Arial"/>
              </a:rPr>
              <a:t>Rozwijanie wiedzy uczniów na szczególny te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Imagen" descr=""/>
          <p:cNvPicPr/>
          <p:nvPr/>
        </p:nvPicPr>
        <p:blipFill>
          <a:blip r:embed="rId1"/>
          <a:stretch/>
        </p:blipFill>
        <p:spPr>
          <a:xfrm>
            <a:off x="4716360" y="-30240"/>
            <a:ext cx="5686560" cy="56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20000"/>
                </a:solidFill>
                <a:latin typeface="Calibri"/>
                <a:ea typeface="Calibri"/>
              </a:rPr>
              <a:t>ROLA NAUCZYCI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Wprowadzenie do ćwicz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Rozdanie różnych ról uczni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Wybór te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Obserwowanie rozwoju ćwicz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pisywanie 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ablicy głównych argumentów obu gr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dsumowanie deb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 Imagen" descr=""/>
          <p:cNvPicPr/>
          <p:nvPr/>
        </p:nvPicPr>
        <p:blipFill>
          <a:blip r:embed="rId1"/>
          <a:stretch/>
        </p:blipFill>
        <p:spPr>
          <a:xfrm>
            <a:off x="4238640" y="0"/>
            <a:ext cx="4941720" cy="5661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76092"/>
                </a:solidFill>
                <a:latin typeface="Calibri"/>
                <a:ea typeface="Calibri"/>
              </a:rPr>
              <a:t>PRZYKŁADOWE TEMA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17114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Osoby homoseksualne muszą wyjawić rodzinie i przyjaciołom swoją orientację seksualn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Osoby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 homoseksualne muszą otrzymać zgodę na małżeństw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Osoby homoseksualne mają prawo adoptować dziec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Gwiazdy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 będące osobami homoseksualnymi muszą dzielić się tym otwarcie by wspierać społeczność LGB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Homoseksualizm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 jest głównym powodem zastraszania w szkołach ponadpodstawowy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66"/>
                </a:solidFill>
                <a:latin typeface="Calibri"/>
              </a:rPr>
              <a:t>PRZYDIAŁ</a:t>
            </a:r>
            <a:r>
              <a:rPr b="1" lang="es-ES_tradnl" sz="4400" spc="-1" strike="noStrike">
                <a:solidFill>
                  <a:srgbClr val="ff0066"/>
                </a:solidFill>
                <a:latin typeface="Calibri"/>
                <a:ea typeface="Calibri"/>
              </a:rPr>
              <a:t> RÓ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5 Marcador de contenido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7" name="6 CuadroTexto"/>
          <p:cNvSpPr/>
          <p:nvPr/>
        </p:nvSpPr>
        <p:spPr>
          <a:xfrm>
            <a:off x="2916360" y="1268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f7f7f"/>
                </a:solidFill>
                <a:latin typeface="Calibri"/>
              </a:rPr>
              <a:t>KTO JEST K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250920" y="20415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MOD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2050920" y="25322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GOSPODA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9 CuadroTexto"/>
          <p:cNvSpPr/>
          <p:nvPr/>
        </p:nvSpPr>
        <p:spPr>
          <a:xfrm>
            <a:off x="4427640" y="19890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CZŁONKOWIE ZESPOŁ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0 CuadroTexto"/>
          <p:cNvSpPr/>
          <p:nvPr/>
        </p:nvSpPr>
        <p:spPr>
          <a:xfrm>
            <a:off x="6272280" y="2286000"/>
            <a:ext cx="26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OBSERWATOR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1ff01"/>
                </a:solidFill>
                <a:latin typeface="Calibri"/>
              </a:rPr>
              <a:t>CZŁONKOWIE </a:t>
            </a:r>
            <a:r>
              <a:rPr b="1" lang="es-ES_tradnl" sz="4400" spc="-1" strike="noStrike">
                <a:solidFill>
                  <a:srgbClr val="01ff01"/>
                </a:solidFill>
                <a:latin typeface="Calibri"/>
                <a:ea typeface="Calibri"/>
              </a:rPr>
              <a:t>ZESPOŁ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2232360"/>
          </a:xfrm>
          <a:prstGeom prst="rect">
            <a:avLst/>
          </a:prstGeom>
          <a:ln w="0">
            <a:noFill/>
          </a:ln>
        </p:spPr>
      </p:pic>
      <p:sp>
        <p:nvSpPr>
          <p:cNvPr id="64" name="4 CuadroTexto"/>
          <p:cNvSpPr/>
          <p:nvPr/>
        </p:nvSpPr>
        <p:spPr>
          <a:xfrm>
            <a:off x="900000" y="34290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2 zespoły: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za i przeci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Około 10 uczniów w zes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Uczniowie prezentują swoje argumenty, pytają i odpowiadają na pytania oraz wyciągają wnios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Calibri"/>
              </a:rPr>
              <a:t>MOD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133720"/>
            <a:ext cx="4321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Kieruje debat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Udziela gło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Przestrzega i pilnuje przyjętych zas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Imagen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54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53735"/>
                </a:solidFill>
                <a:latin typeface="Calibri"/>
                <a:ea typeface="Calibri"/>
              </a:rPr>
              <a:t>GOSPODAR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514368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3564000" y="1989000"/>
            <a:ext cx="536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Kontroluje zegar, tak by każdy zespół miał tyle samo czasu na wypowied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Dzwoni dzwonkiem kiedy mija czas i następuje zm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3a2c7"/>
                </a:solidFill>
                <a:latin typeface="Calibri"/>
              </a:rPr>
              <a:t>OBSERWATO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"/>
          <p:cNvPicPr/>
          <p:nvPr/>
        </p:nvPicPr>
        <p:blipFill>
          <a:blip r:embed="rId1"/>
          <a:stretch/>
        </p:blipFill>
        <p:spPr>
          <a:xfrm>
            <a:off x="5219640" y="1506600"/>
            <a:ext cx="3722760" cy="37227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306360" y="119700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2 / 4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uczn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Wypełnianie karty obserw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Przedstawienie wniosków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końc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7:28:20Z</dcterms:created>
  <dc:creator>Joserra</dc:creator>
  <dc:description/>
  <dc:language>en-US</dc:language>
  <cp:lastModifiedBy>joris van wynendaele</cp:lastModifiedBy>
  <dcterms:modified xsi:type="dcterms:W3CDTF">2018-11-24T15:32:29Z</dcterms:modified>
  <cp:revision>100</cp:revision>
  <dc:subject/>
  <dc:title>GUIDELINES FOR A DEBATE</dc:title>
</cp:coreProperties>
</file>