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  <p:custShowLst>
    <p:custShow name="Presentación personalizada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1E2-B917-41D0-B3BA-713D83442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D9B-F76A-48A5-B085-40843F5E8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42A-FC27-4774-9706-B2EE445A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1CAB-AD0E-43C7-949F-BA1D74F3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A4F-F81F-4607-9B27-BDBE7FB5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415-7111-4BA6-98A7-BC53579B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D954-0D83-4BE7-8B60-D48EB323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898-FE8B-433B-8BFB-46325565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457E-F2DD-4158-BCD5-07448D95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6AE-53AA-453A-B902-3AFB9425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3644-F696-4DE4-9DF3-3D262AC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8AB2-8A21-4CE8-A875-55C972C1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504B-775C-40CF-98F9-E81450B01C6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7030a0"/>
                </a:solidFill>
                <a:latin typeface="Calibri"/>
                <a:ea typeface="Calibri"/>
              </a:rPr>
              <a:t>DEBATA KLASO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12536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  <a:ea typeface="Calibri"/>
              </a:rPr>
              <a:t>ORGANIZACJA I ZAS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3 Imagen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699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3 Imagen" descr=""/>
          <p:cNvPicPr/>
          <p:nvPr/>
        </p:nvPicPr>
        <p:blipFill>
          <a:blip r:embed="rId1"/>
          <a:stretch/>
        </p:blipFill>
        <p:spPr>
          <a:xfrm>
            <a:off x="3635280" y="33480"/>
            <a:ext cx="5715000" cy="3808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0504d"/>
                </a:solidFill>
                <a:latin typeface="Calibri"/>
              </a:rPr>
              <a:t>OGÓLNE ZASA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5280" y="14130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Wszyscy uczniowie muszą wziąć udział w deb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Uczniowie muszą skupić się na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tema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Muszą słuchać uważnie i szanować kolegó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Nie ma wygranych, czy przegranych; jest nau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Uczniowie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, którzy nie zgadzają się z tymi zasadami, stają się publiczności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3300"/>
                </a:solidFill>
                <a:latin typeface="Calibri"/>
              </a:rPr>
              <a:t>CZAS (50´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341360"/>
          <a:ext cx="8229600" cy="4592880"/>
        </p:xfrm>
        <a:graphic>
          <a:graphicData uri="http://schemas.openxmlformats.org/drawingml/2006/table">
            <a:tbl>
              <a:tblPr/>
              <a:tblGrid>
                <a:gridCol w="1450800"/>
                <a:gridCol w="67788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ZAS TR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tacja ćwiczenia i podanie te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ytania i wątpliwoś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czniowie przygotowują argumenty w grup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´x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żdy zespół prezentuje swoje argumen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´x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grumen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leksje i wnioski w grup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´x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nioski końcow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ena obserwator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3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nioski końcowe nauczyci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46c0a"/>
                </a:solidFill>
                <a:latin typeface="Calibri"/>
                <a:ea typeface="Calibri"/>
              </a:rPr>
              <a:t>DEBATA UCZNIOWS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CO TO JES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3 CuadroTexto"/>
          <p:cNvSpPr/>
          <p:nvPr/>
        </p:nvSpPr>
        <p:spPr>
          <a:xfrm>
            <a:off x="971640" y="2276640"/>
            <a:ext cx="7796160" cy="18003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To ćwiczenie, gdzie uczniowie przewiają za lub przeciw narzuconemu tematowi bez próby znalezienia rozwiąz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2 Marcador de contenido"/>
          <p:cNvSpPr/>
          <p:nvPr/>
        </p:nvSpPr>
        <p:spPr>
          <a:xfrm>
            <a:off x="609480" y="3508200"/>
            <a:ext cx="8229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5 CuadroTexto"/>
          <p:cNvSpPr/>
          <p:nvPr/>
        </p:nvSpPr>
        <p:spPr>
          <a:xfrm>
            <a:off x="995400" y="4076640"/>
            <a:ext cx="7794720" cy="18003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  <a:ea typeface="Arial"/>
              </a:rPr>
              <a:t>Rozwijanie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  <a:ea typeface="Calibri"/>
              </a:rPr>
              <a:t> umiejętności komunikowania się, analitycznego myślenia i szacunk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  <a:ea typeface="Arial"/>
              </a:rPr>
              <a:t>Rozwijanie wiedzy uczniów na szczególny te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3 Imagen" descr=""/>
          <p:cNvPicPr/>
          <p:nvPr/>
        </p:nvPicPr>
        <p:blipFill>
          <a:blip r:embed="rId1"/>
          <a:stretch/>
        </p:blipFill>
        <p:spPr>
          <a:xfrm>
            <a:off x="4716360" y="-30240"/>
            <a:ext cx="5686560" cy="5686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20000"/>
                </a:solidFill>
                <a:latin typeface="Calibri"/>
                <a:ea typeface="Calibri"/>
              </a:rPr>
              <a:t>ROLA NAUCZYCI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77300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Wprowadzenie do ćwicz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Rozdanie różnych ról uczni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Wybór tem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Obserwowanie rozwoju ćwiczen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pisywanie n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ablicy głównych argumentów obu gr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odsumowanie deba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3 Imagen" descr=""/>
          <p:cNvPicPr/>
          <p:nvPr/>
        </p:nvPicPr>
        <p:blipFill>
          <a:blip r:embed="rId1"/>
          <a:stretch/>
        </p:blipFill>
        <p:spPr>
          <a:xfrm>
            <a:off x="4238640" y="0"/>
            <a:ext cx="4941720" cy="5661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76092"/>
                </a:solidFill>
                <a:latin typeface="Calibri"/>
                <a:ea typeface="Calibri"/>
              </a:rPr>
              <a:t>PRZYKŁADOWE TEMA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08000" y="1711440"/>
            <a:ext cx="90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  <a:ea typeface="Calibri"/>
              </a:rPr>
              <a:t>Osoby homoseksualne muszą wyjawić rodzinie i przyjaciołom swoją orientację seksualn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Osoby</a:t>
            </a:r>
            <a:r>
              <a:rPr b="0" lang="es-ES_tradnl" sz="3000" spc="-1" strike="noStrike">
                <a:solidFill>
                  <a:srgbClr val="000000"/>
                </a:solidFill>
                <a:latin typeface="Calibri"/>
                <a:ea typeface="Calibri"/>
              </a:rPr>
              <a:t> homoseksualne muszą otrzymać zgodę na małżeństw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  <a:ea typeface="Calibri"/>
              </a:rPr>
              <a:t>Osoby homoseksualne mają prawo adoptować dzieci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Gwiazdy</a:t>
            </a:r>
            <a:r>
              <a:rPr b="0" lang="es-ES_tradnl" sz="3000" spc="-1" strike="noStrike">
                <a:solidFill>
                  <a:srgbClr val="000000"/>
                </a:solidFill>
                <a:latin typeface="Calibri"/>
                <a:ea typeface="Calibri"/>
              </a:rPr>
              <a:t> będące osobami homoseksualnymi muszą dzielić się tym otwarcie by wspierać społeczność LGB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alibri"/>
              </a:rPr>
              <a:t>Homoseksualizm</a:t>
            </a:r>
            <a:r>
              <a:rPr b="0" lang="es-ES_tradnl" sz="3000" spc="-1" strike="noStrike">
                <a:solidFill>
                  <a:srgbClr val="000000"/>
                </a:solidFill>
                <a:latin typeface="Calibri"/>
                <a:ea typeface="Calibri"/>
              </a:rPr>
              <a:t> jest głównym powodem zastraszania w szkołach ponadpodstawowyc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0066"/>
                </a:solidFill>
                <a:latin typeface="Calibri"/>
              </a:rPr>
              <a:t>PRZYDIAŁ</a:t>
            </a:r>
            <a:r>
              <a:rPr b="1" lang="es-ES_tradnl" sz="4400" spc="-1" strike="noStrike">
                <a:solidFill>
                  <a:srgbClr val="ff0066"/>
                </a:solidFill>
                <a:latin typeface="Calibri"/>
                <a:ea typeface="Calibri"/>
              </a:rPr>
              <a:t> RÓ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5 Marcador de contenido" descr=""/>
          <p:cNvPicPr/>
          <p:nvPr/>
        </p:nvPicPr>
        <p:blipFill>
          <a:blip r:embed="rId1"/>
          <a:stretch/>
        </p:blipFill>
        <p:spPr>
          <a:xfrm>
            <a:off x="1763640" y="3213000"/>
            <a:ext cx="5713560" cy="3808440"/>
          </a:xfrm>
          <a:prstGeom prst="rect">
            <a:avLst/>
          </a:prstGeom>
          <a:ln w="0">
            <a:noFill/>
          </a:ln>
        </p:spPr>
      </p:pic>
      <p:sp>
        <p:nvSpPr>
          <p:cNvPr id="57" name="6 CuadroTexto"/>
          <p:cNvSpPr/>
          <p:nvPr/>
        </p:nvSpPr>
        <p:spPr>
          <a:xfrm>
            <a:off x="2916360" y="1268280"/>
            <a:ext cx="35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f7f7f"/>
                </a:solidFill>
                <a:latin typeface="Calibri"/>
              </a:rPr>
              <a:t>KTO JEST K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7 CuadroTexto"/>
          <p:cNvSpPr/>
          <p:nvPr/>
        </p:nvSpPr>
        <p:spPr>
          <a:xfrm>
            <a:off x="250920" y="2041560"/>
            <a:ext cx="30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Arial"/>
              </a:rPr>
              <a:t>MOD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8 CuadroTexto"/>
          <p:cNvSpPr/>
          <p:nvPr/>
        </p:nvSpPr>
        <p:spPr>
          <a:xfrm>
            <a:off x="2050920" y="25322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Calibri"/>
              </a:rPr>
              <a:t>GOSPODAR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9 CuadroTexto"/>
          <p:cNvSpPr/>
          <p:nvPr/>
        </p:nvSpPr>
        <p:spPr>
          <a:xfrm>
            <a:off x="4427640" y="198900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Arial"/>
              </a:rPr>
              <a:t>CZŁONKOWIE ZESPOŁ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0 CuadroTexto"/>
          <p:cNvSpPr/>
          <p:nvPr/>
        </p:nvSpPr>
        <p:spPr>
          <a:xfrm>
            <a:off x="6272280" y="2286000"/>
            <a:ext cx="26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alibri"/>
                <a:ea typeface="Arial"/>
              </a:rPr>
              <a:t>OBSERWATOR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1ff01"/>
                </a:solidFill>
                <a:latin typeface="Calibri"/>
              </a:rPr>
              <a:t>CZŁONKOWIE </a:t>
            </a:r>
            <a:r>
              <a:rPr b="1" lang="es-ES_tradnl" sz="4400" spc="-1" strike="noStrike">
                <a:solidFill>
                  <a:srgbClr val="01ff01"/>
                </a:solidFill>
                <a:latin typeface="Calibri"/>
                <a:ea typeface="Calibri"/>
              </a:rPr>
              <a:t>ZESPOŁ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840720" cy="2232360"/>
          </a:xfrm>
          <a:prstGeom prst="rect">
            <a:avLst/>
          </a:prstGeom>
          <a:ln w="0">
            <a:noFill/>
          </a:ln>
        </p:spPr>
      </p:pic>
      <p:sp>
        <p:nvSpPr>
          <p:cNvPr id="64" name="4 CuadroTexto"/>
          <p:cNvSpPr/>
          <p:nvPr/>
        </p:nvSpPr>
        <p:spPr>
          <a:xfrm>
            <a:off x="900000" y="3429000"/>
            <a:ext cx="77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2 zespoły: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za i przeci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Około 10 uczniów w zes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Uczniowie prezentują swoje argumenty, pytają i odpowiadają na pytania oraz wyciągają wnios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Calibri"/>
              </a:rPr>
              <a:t>MODE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50560" y="2133720"/>
            <a:ext cx="4321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Kieruje debat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Udziela gło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Przestrzega i pilnuje przyjętych zas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3 Imagen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5546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953735"/>
                </a:solidFill>
                <a:latin typeface="Calibri"/>
                <a:ea typeface="Calibri"/>
              </a:rPr>
              <a:t>GOSPODARZ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3 Marcador de contenido" descr=""/>
          <p:cNvPicPr/>
          <p:nvPr/>
        </p:nvPicPr>
        <p:blipFill>
          <a:blip r:embed="rId1"/>
          <a:stretch/>
        </p:blipFill>
        <p:spPr>
          <a:xfrm>
            <a:off x="-684360" y="1052640"/>
            <a:ext cx="514368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4 CuadroTexto"/>
          <p:cNvSpPr/>
          <p:nvPr/>
        </p:nvSpPr>
        <p:spPr>
          <a:xfrm>
            <a:off x="3564000" y="1989000"/>
            <a:ext cx="5364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Kontroluje zegar, tak by każdy zespół miał tyle samo czasu na wypowied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Dzwoni dzwonkiem kiedy mija czas i następuje zm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b3a2c7"/>
                </a:solidFill>
                <a:latin typeface="Calibri"/>
              </a:rPr>
              <a:t>OBSERWATORZ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3 Marcador de contenido" descr=""/>
          <p:cNvPicPr/>
          <p:nvPr/>
        </p:nvPicPr>
        <p:blipFill>
          <a:blip r:embed="rId1"/>
          <a:stretch/>
        </p:blipFill>
        <p:spPr>
          <a:xfrm>
            <a:off x="5219640" y="1506600"/>
            <a:ext cx="3722760" cy="3722760"/>
          </a:xfrm>
          <a:prstGeom prst="rect">
            <a:avLst/>
          </a:prstGeom>
          <a:ln w="0">
            <a:noFill/>
          </a:ln>
        </p:spPr>
      </p:pic>
      <p:sp>
        <p:nvSpPr>
          <p:cNvPr id="73" name="4 CuadroTexto"/>
          <p:cNvSpPr/>
          <p:nvPr/>
        </p:nvSpPr>
        <p:spPr>
          <a:xfrm>
            <a:off x="306360" y="1197000"/>
            <a:ext cx="5616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2 / 4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ucznió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Wypełnianie karty obserw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Arial"/>
              </a:rPr>
              <a:t>Przedstawienie wniosków 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  <a:ea typeface="Calibri"/>
              </a:rPr>
              <a:t>końc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4T17:28:20Z</dcterms:created>
  <dc:creator>Joserra</dc:creator>
  <dc:description/>
  <dc:language>en-US</dc:language>
  <cp:lastModifiedBy>joris van wynendaele</cp:lastModifiedBy>
  <dcterms:modified xsi:type="dcterms:W3CDTF">2018-11-24T15:32:29Z</dcterms:modified>
  <cp:revision>100</cp:revision>
  <dc:subject/>
  <dc:title>GUIDELINES FOR A DEBATE</dc:title>
</cp:coreProperties>
</file>